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DC070-324E-4E2C-BC25-1020B2C560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F9DA0-2D82-43E4-B975-B816724A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F6065-9B8E-49C7-B559-03711C45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F76E2-DA7E-46DF-BB6C-87ECF27CCB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021C1-7CBA-495F-9956-6C9D3C32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B7BB1-F4C1-4D97-A278-A82FE316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2E2A1-B5B8-4383-9446-5655E390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1D13F-442F-4B05-9167-81EB4742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1C4BE-7374-418E-84CA-A529CEE9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485B6-1964-48BA-9FEB-77861C6B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8E139-41C1-4729-99AF-C8358B41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E66E2-4381-4735-A6D8-10B9BBF6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6241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EB7C-D573-4A8F-B776-E29DC8261BE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457200" y="533520"/>
            <a:ext cx="373392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--------------------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1-23-4567 Adams Joh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geant First Class (E-7), as of 03-Dec-20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--------------------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Record As Of Today................................December 3 20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--------------------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ve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..............................................Adams John Quinc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 Security Number........................................001-23-45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ious Social Security Number...............................000-00-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Grade..........................................................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Date of Grade.......................................Dec 12,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Date of Grade Flag................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e - 1st Prior......................................................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Date of Grade.......................................Jul 27,19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 Grade - 2nd Prior......................................................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 Indicator...........................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Date......................................................April 01,-19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Date 1st Prior......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Prior Service........................................................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E.....................................................................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der..................................................................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Active Federal Military Service Counter.......................01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...........................................................Dec 31, 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 of Gain..................................................Apr-01,20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 Indicator........................................................GG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 of Separation......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s Indicator..............................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ry Code................................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...............................................................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 Component.........................................................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 Flag....................................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..............................................................V2SKVAA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 of assignment to current PAS.............................Mar 01,-19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 1st Prior............................................................S2444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idated Base Personnel Office 1st Prior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 of assignment 1st Prior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 2nd Prior.................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idated Base Personnel Office 2nd Prior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 of assignment 2nd Prior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 3rd Prior.................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idated Base Personnel Office 3rd Prior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 of assignment 3rd Prior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809880" y="685800"/>
            <a:ext cx="457200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 4th Prior...............................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idated Base Personnel Office 4th Prior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 of assignment 4th Prior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P Flag....................................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Element Code...............................................PAPD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Element Code Prior.........................................H6GR1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Pay Group Mobilization Augmentee (PGMA)..........................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Pay Group Mobilization Augmentee Prior (ST-PGMA-PR)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 Security Account Number................................001-23-45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................................................................Ad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.................................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et..................................................163 E KERCHER 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ty..............................................................LEBAN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..................................................................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p Code.......................................................17046-92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ry.....................................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Name.........................................Adams John Quinc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 Date...............................................19-Nov-20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e...................................................................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 Agency.......................................................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...................................................................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Indicator........................................................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72200" y="19368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625D6-399B-4A73-87D0-EBFEBE26B7CC}" type="slidenum">
              <a:t>1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533520"/>
            <a:ext cx="36576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t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Stat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uty Paid to Date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Status 1............................................................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Status 1 Start Date.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Status 1 Stop Date.............................................9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ing Processing Code 1................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Status 2................................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Status 2 Start Date.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Status 2 Stop Date..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ing Processing Code 2................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d Pay Stat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d pay status.............................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Allowance for Subsist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....................................................................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 Start...........................................................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..............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 Stop............................................................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...............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er Tra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er Number of First Long Tour.............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er Number of Second Long Tour............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el Days for First Long Tour........................................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el Days for Second Long Tour.......................................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Allowance for Housing Type II (BA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.................................................................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nt Type.........................................................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ngest Child DOB......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Date...................................................Jan 01, 1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Prior...........................................................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nt Certification Date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s Available.....................................................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...................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............................................................…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entive P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...................................................................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..............................................................Oct 12, 1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...............................................................Dec 30, 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icer Service Date....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iation Service Date..............................................00000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762120"/>
            <a:ext cx="3733560" cy="48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orm  Allow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........................................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ment Date............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Date.............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 Duty P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..............................................................Sep 27, 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...............................................................Jul 30, 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l Dental Veterinary Officer Pay (MDV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....................................................................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....................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l Service Date....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ion Code.......................................................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y Separation Allowance Type 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..............................................................Jul 31, 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...............................................................Jul 30, 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ile Fire P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..............................................................Sep 27, 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...............................................................Jul 30, 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Allowance for Housing (BA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p Code............................................................21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A Daily Rate....................................................0.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A Start.........................................................Jan 01, 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A Stop..........................................................Jul 30, 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Dependents...................................................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A Indicator.........................................................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--------------------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05720" y="1936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B051F-0922-4C21-BFD5-887B6B6B229D}" type="slidenum">
              <a:t>2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4T18:18:27Z</dcterms:created>
  <dc:creator>brosius</dc:creator>
  <dc:description/>
  <dc:language>en-US</dc:language>
  <cp:lastModifiedBy>US ARMY</cp:lastModifiedBy>
  <dcterms:modified xsi:type="dcterms:W3CDTF">2001-12-03T21:19:47Z</dcterms:modified>
  <cp:revision>8</cp:revision>
  <dc:subject/>
  <dc:title>No Slide Title</dc:title>
</cp:coreProperties>
</file>